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2AB69-54F8-4DDD-BE03-B66C75D30F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0355-50D2-4A34-B73A-1D4BA660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0718-B13D-4075-A3AB-B22A1FF4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D79E8-D913-4701-BA6E-812969CD0E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25450-F29D-44FF-890A-398E8496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2AAF-F89F-493F-A0FB-17ECFB78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41C6-E0C6-4D24-8323-C430E305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7DFB9-BFED-4BED-9EE8-DF8E7821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E73C8-1343-405A-ABE1-8ADA4BEC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57686-EBE1-4A66-9AC5-B0153649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66C67-4E32-475F-8002-58B2B114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9A9F-C520-4A7A-838A-5891E524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8DCC-F4B1-4A71-A62C-F4B4883C23C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 冠状动脉粥样硬化性心脏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70A3-47B1-4228-8998-8C5C250B62A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9b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99669b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血性心肌病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ischemic cardiomyopathy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心肌的血供长期不足，心肌组织发生营养障碍和萎缩，或大面积心肌梗死后，纤维组织增生所致。其临床特点为大多有心绞痛或心肌梗死病史，心脏逐渐扩大，发生心律失常和心力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A152-50BE-4802-B00F-DE7FF350205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猝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udden dea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在动脉粥样硬化的基础上，发生冠状动脉痉挛或栓塞，导致心肌急剧缺血，引起短暂的严重性心律失常所致，及时的心脏复苏抢救措施可挽救患者生命。但一些急性心肌梗死并发心脏破裂的患者，心肌梗死的症状极不明显，常因心脏破裂而迅速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22A6-C11A-4A63-AD20-CF41790740B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血管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本身可导致心血管功能减退，在冠心病发病后，患者往往因减少或缺少体力活动而导致心血管系统适应性降低，引起循环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0B8C-1A9F-41E0-A39A-86E02F65EB5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呼吸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长期的心血管功能障碍均会伴随不同程度的肺循环功能障碍，使肺血管和肺泡气体交换的效率降低，吸氧能力下降，进一步诱发或加重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B146-C74A-4C41-84B6-49097F2CE79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运动耐力减退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耐力减退与年龄增长有关，而冠心病加重了年龄相关的全身运动耐力减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冠心病可导致机体吸氧能力减退、肌肉萎缩和氧代谢能力下降，从而限制了全身运动耐力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1F0A-9C9E-4015-85A2-BC87D1B38BD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主要是脂质代谢和糖代谢。脂质代谢障碍主要表现为胆固醇和三酰甘油增高，高密度脂蛋白胆固醇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还可导致胰岛素抵抗，除了引起糖代谢障碍以外，还可促使形成高胰岛素血症和血脂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A631-65C9-4B3F-88EC-49094459010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影响患者日常生活和治疗的重要因素，往往是不良的生活习惯和心理、情绪等方面的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30CD-2B28-4085-80A5-341C7E47DF0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身体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的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家族史与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药物的疗效和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绞痛、心肌梗死情况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1918-39E0-4CD8-A4D6-575A40C7B81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Electrocardiography exercise test,ECG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通过一定量的运动增加心脏负荷，使心脏储备力进入最大或失代偿状态，诱发生理或病理反应，观察心电图变化，从而评估冠心病患者心功能情况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8E34-1B1F-4081-A82C-F94C0AD34E4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终止标准分类，心电运动负荷试验分为症状限制性运动试验、低水平运动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运动方式分类，心电运动负荷试验包括活动平板试验、踏车运动试验、手摇车运动试验、等长收缩运动试验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步行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BE7A-978D-4B05-918A-0D2488C48C0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运动试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可以直接反映心肌活动，揭示心肌收缩和舒张功能，同时反映心脏内血液变化情况，有利于提供运动心电图不能显示的重要信息。检查方式一般选用卧位踏车、活动平板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78CC-4655-49DE-8FD8-887F13DC82D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metabolic equivalent,ME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是以安静、坐位时的能量消耗为基础，表达各种活动时相对能量代谢水平。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1MET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相当于耗氧量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3.5ml/(kg.min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主要运用于判断体力活动能力及预后、判断心功能及相应的活动水平、制订运动处方、指导日常生活活动与职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003D-760A-47E4-B9DE-FEB3A3B6C08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功能评定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纽约心脏病学会功能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步行试验判断心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Bor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观劳累程度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6D94-F69E-458A-A9CE-C312902245C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根据冠心病康复治疗的特征，国际上将康复治疗分为三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   Ⅰ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内康复期）：指急性心肌梗死或急性冠脉综合征住院期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院外早期康复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：该期康复为冠心病康复的核心阶段，包括陈旧性心肌梗死、稳定型心绞痛及隐性冠心病等患者的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外长期康复）：指病情长期较稳定，或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过程结束的冠心病患者，为巩固与维持已形成的健康生活方式和运动习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F0C8-2C49-46D8-969B-14615AF9F94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期康复计划参考标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小时内没有新发或再发胸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肌损伤标志物水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Times New Roman"/>
              </a:rPr>
              <a:t>CK-MB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和肌钙蛋白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没有进一步升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无明显心力衰竭失代偿征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静息时呼吸困难伴湿啰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内没有新发严重心律失常或心电图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574560" y="3049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90BD-307B-4CDC-A94D-F5747B324E9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量宜控制在静息心率增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左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同时患者感觉不大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 Bor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&lt; 12 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如果运动或日常活动后心率增加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感觉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宜减少运动量或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0E0C-A617-4053-8B39-07E63D288FC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2360" y="1752480"/>
            <a:ext cx="8315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）活动：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稳定后，可进行床上的肢体活动。先活动远端肢体的小关节强调活动时呼吸自然、平稳，没有任何憋气和用力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然后逐步做抗阻活动，例如捏气球、皮球或拉皮筋等。避免举重、攀高、挖掘等剧烈活动；避免各种竞技性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0B04-D304-4755-9E83-8687492B8CE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呼吸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主要指腹式呼吸，在吸气时腹部隆起，让膈肌尽量下降；呼气时腹部收缩，将肺部的气体尽量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呼气与吸气之间要均匀连贯，可以比较缓慢，但不可憋气，呼气与吸气之比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: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8D2F-02E0-48E5-AF66-E69255D0616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从第一日就开始。开始坐时可以有依托，如床头抬高，将枕头或被子放在背后在适应有依托坐位之后，患者应逐步过渡到无依托独立坐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7B5C-40E5-4687-A586-1E0C80A7D4D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无依托独立坐位训练后，开始床边站立训练。在站立无问题后，开始床边步行，以便在疲劳或不适时能够及时上床休息，逐步过渡到病室内步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AD87-D25D-42EC-8CF4-C2AB303FCF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5397-ABA6-420C-8985-4A799357CAE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上下楼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病室内步行训练后，可适当进行上、下楼活动。下楼的运动负荷不大，而上楼的运动负荷主要取决于上楼的速度，保持非常缓慢的上楼速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2F8C-19AB-4466-AB34-E33541E6B17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排便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卧位排便由于臀部位置抬高，回心血量增加，使心脏负荷增加，同时由于排便时须克服体位所造成的重力，需要额外的用力。因此，提倡在床边放置简易坐便器，让患者坐位排便。但禁忌蹲位排便或在排便时过分用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F20F-7837-460D-A5D8-39616AF50DD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63640" y="306000"/>
            <a:ext cx="501156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娱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病情许可的范围内，可以进行有轻微体力活动的娱乐，但要避免气喘和疲劳，如室内外散步、园艺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EF25-82EF-4C88-A998-9028E8F8287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康复方案调整与监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或活动时心率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&lt;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次日训练可进行下一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中心率增加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左右，则需继续进行同一级别的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增加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或出现任何不良反应，则应返回到前一阶段的运动级别，甚至暂时停止运动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2DF3-A276-48BC-B75E-97D8FDBBFA3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健康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告知患者冠心病相关知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不必要的紧张、焦虑情绪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控制冠心病危险因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特别强调低盐低脂的饮食、健康的生活方式、个性修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D40F-07AA-4134-9AA2-323D6C718E9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院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在心电监护下步行，若持续步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无症状且心电图无异常，可遵医嘱安排患者出院。患者出现并发症或运动试验异常需进一步检查，并适当延长住院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客观评估患者出院前运动能力，给予出院后的日常生活及运动康复的指导，但出院后发生任何不适均应暂停活动，并按时复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1BA7-4557-488D-839B-EF9BC6005FE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此期除进行日常活动指导、心理支持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加了每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心电血压监护下的中等强度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括有氧运动、阻抗运动、柔韧性训练等。此期在家庭活动中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28EC-B610-4983-B4F9-8A4BE30D8BC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准备活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多采用低水平有氧运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。目的是放松和伸展肌肉、提高关节活动度和心血管的适应性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防运动性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E736-030D-4018-A787-7C9850F7F2F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训练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含有氧运动、阻抗运动、柔韧性训练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~ 9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9BED-D4D3-4884-8C32-717EBCE9817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l)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有氧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见的有氧训练方式包括行走、慢跑、上下楼梯等。 建议训练时间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开始。运动频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 5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为最大运动强度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 80%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水平设定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；体能好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设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2BA7-6956-4BF3-B0C5-2AA80C99B34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2360" y="33300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冠心病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黑体"/>
              </a:rPr>
              <a:t>coronary atherosclerotic heart disease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是指冠状动脉粥样硬化使血管腔狭窄或阻塞，或（和）因冠状动脉功能性改变（痉挛）导致心肌缺血缺氧或坏死引起的心脏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DEBF-C97C-4ED3-93C9-48F18193753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有氧活动确定运动强度的方法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储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目标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=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最大心率一静止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x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%+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静止心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②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靶心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静息心率的基础上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~ 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好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自我感知劳累程度分级法：通常建议患者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2~16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范围内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14E4-2796-435C-9D45-7F721F864BC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阻抗运动形式多为循环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即一系列中等负荷、持续、缓慢、大肌群的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用的方法有利用自身体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如俯卧撑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哑铃或杠铃、运动器械以及弹力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058F-E0A8-46BF-B5A7-90E1F279365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初始推荐强度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l-RM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~4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下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or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1~13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。切记运动过程中用力时呼气，放松时吸气，不要憋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2C05-A4FA-4308-8ECB-6DBF6ECEFAF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柔韧性训练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一个部位拉伸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1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逐渐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若耐受可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强度为有牵拉感觉同时不感觉疼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个动作重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左右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214B-2C3F-4407-BDCD-5FEBDF0C6BA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放松运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放松方式是慢节奏有氧运动的延续或是柔韧性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根据患者的病情轻重可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越重放松运动的持续时间宜越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6611-CA7D-4145-BE91-01A81BDC768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在锻炼中掌握自我监测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项目包括心率、心律、血压、呼吸、主观用力程度以及有无用力失耐受的症状和体征，以保证在安全范围内达到和保持运动处方所规定的运动水平，适时终止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F454-2A10-4A93-A79B-C2FC86EAFC8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性功能康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一般情况下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建议患者出院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后可以重新开始性生活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CAB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二层楼试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患者能否完成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6MET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E7DC-24E5-42FE-80FA-03C3AB44501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选择适当的运动，避免竞技性运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冒或发热，在症状和体征消失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再恢复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在阳光下和高气温时剧烈运动，寒冷和炎热天气时相对降低运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④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定期在康复医师的指导下检查和修正运动处方，避免过度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训练必须持之有恒，如间隔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~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，再开始运动前需进行相应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ED28-61B8-4995-84BA-123E947B1E9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5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低危患者的运动康复无需医学监护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仍为中危甚至高危患者的运动康复中仍需要医学监护。低危患者及部分中危患者可以进一步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期康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危患者及部分中危患者应转上级医院继续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此期患者仍需控制危险因素，改善体力活动能力和心血管功能，提高患者参与并坚持康复的主动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97EE-9606-410E-880A-80090F37158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健康宣教  向患者及家属介绍冠心病药物治疗和康复训练的重要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饮食指导   指导患者进食低脂、富含纤维素、易消化饮食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理评估  评估患者有无焦虑、孤单、抑郁、情绪易激动等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用药指导   帮助患者掌握服用硝酸甘油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为冠心病患者提供有关性生活方面指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E0E2-278F-4AA5-ADE3-283C25ACF3B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8440" y="1752480"/>
            <a:ext cx="8324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二）流行病学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冠心病是动脉粥样硬化导致器官病变的最常见类型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，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也是严重危害人类健康的常见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本病出现症状或致残、致死后果多发生在</a:t>
            </a:r>
            <a:r>
              <a:rPr b="1" lang="en-US" sz="2600" spc="-1" strike="noStrike">
                <a:solidFill>
                  <a:srgbClr val="1d1496"/>
                </a:solidFill>
                <a:latin typeface="黑体"/>
                <a:ea typeface="黑体"/>
              </a:rPr>
              <a:t>40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岁以后，男性发病早于女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在我国，冠心病发病率和病死率近年来呈增长趋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6580-B4AB-4E63-B57D-B69E9D0D788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10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6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岁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天前因“无明显诱因出现持续性压榨性胸痛”入院，疼痛部位主要位于胸骨体中段并放射至心前区，休息和含服硝酸甘油均不能缓解，伴有气促，濒死感、恐惧感。原发性高血压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平素血压波动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0~180/70~11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，规律服用降血压药物。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II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型糖尿病病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仅用饮食疗法。入院时查体发现：口唇发绀，颈静脉怒张，左侧肺底中水泡音，心界向左下扩大。心电图示：异位心律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V1~V3 ST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段抬高，偶发室性期前收缩。实验室检查白细胞计数增高、红细胞沉降率增快，肌钙蛋白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Ⅰ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、肌红蛋白增高。目前患者病情平稳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86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R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9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B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6/8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试分析：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该患者目前处于冠心病康复治疗的哪期，应如何指导患者进行康复运动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应从哪些方面对患者进行健康宣教，以促进患者的康复及预防二次发作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D506-E87A-48F3-99D0-E729ACCCC18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三）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①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稳定型心绞痛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stable angina pectoris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阵发性的前胸压榨性疼痛或憋闷感觉，主要位于胸骨体中段或上段之后，可放射至心前区和左上肢尺侧，持续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分钟后逐渐消失，休息或舌下含服硝酸甘油制剂后消失，劳累、情绪激动、饱食、受寒等为其常见的诱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7CC4-150B-4C1C-AE04-730ECFE5F52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不稳定性心绞痛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unstable angina,U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这类心绞痛有发展至心肌梗死的高度危险性。其胸痛的部位、性质与稳定型心绞痛相似，原为稳定型心绞痛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个月内疼痛发作的频率增加、时限延长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程度加重、硝酸类药物缓解作用减弱，休息时或较轻微活动即可诱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5C01-D96C-449D-960C-2981332EA60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肌梗死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myocardial  infarction,MI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其疼痛部位和性质与心绞痛相同，但诱因多不明显，且常发生于安静时，程度更重，持续时间更长，可达数小时或更长，休息和含服硝酸甘油多不能缓解，疼痛剧烈时常伴有不同程度的恶心呕吐、上腹胀痛。全身症状表现为发热、心动过速、白细胞增高和红细胞沉降率增快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0B43-3FF3-4EAE-8AE5-C99FA35AE15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无症状性心肌缺血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silent myocardial ischemi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该病无临床症状，但在体格检查时发现心电图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段压低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波倒置，或放射性核素心肌显像示心肌缺血。它可突然转化为心绞痛或心肌梗死，亦可逐渐演变为缺血性心肌病，发生心律失常或心力衰竭，个别患者亦可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24:11Z</dcterms:modified>
  <cp:revision>1</cp:revision>
  <dc:subject/>
  <dc:title>        第八章  心肺系统疾病的康复护理</dc:title>
</cp:coreProperties>
</file>